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24D-5AAE-4B97-A82A-5019DD58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545-7C0A-4343-B111-5A6FE105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5B8-2904-4891-A124-FADF2F22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AB6-E941-427A-9187-212557BA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7E9-EEE3-48C5-BD57-A449B609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E22-7C75-4844-9FC7-01274A6E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AF8-707C-4637-8950-301809BF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09A-C867-4B0A-9262-243C1D68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83D-500F-4DCA-927D-3A3E5CAF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CD4-933D-42B5-96F9-AA746A3F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F5A-5AF5-490C-AA15-F5488B30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077-50EC-45A5-AF9A-5F8EF905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F21-A8B2-474D-8D8F-6CE355486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cache.eb.com/eb/image%3Fid%3D1254%26rendTypeId%3D4&amp;imgrefurl=http://www.britannica.com/eb/art-11667/Harold-Holt-1966&amp;h=450&amp;w=329&amp;sz=23&amp;hl=en&amp;start=10&amp;um=1&amp;tbnid=Fg7EXf699_faGM:&amp;tbnh=127&amp;tbnw=93&amp;prev=/images%3Fq%3DHarold%2BHolt%2Bpics%26um%3D1%26hl%3Den%26safe%3Dstrict%26sa%3DN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620640"/>
            <a:ext cx="734544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itizenship Referendum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5229360"/>
            <a:ext cx="64087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y Mark C and Annett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84360" y="1628640"/>
            <a:ext cx="2951280" cy="3529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 referendum states to remove the term aboriginal race because it was considered 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discriminatory.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t also denied the Commonwealth Parliament to make special laws for the aborigina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260280"/>
            <a:ext cx="792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99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y was it created?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solidFill>
                <a:srgbClr val="99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referedum" descr="1967 Referedum"/>
          <p:cNvPicPr/>
          <p:nvPr/>
        </p:nvPicPr>
        <p:blipFill>
          <a:blip r:embed="rId1"/>
          <a:stretch/>
        </p:blipFill>
        <p:spPr>
          <a:xfrm>
            <a:off x="2484360" y="3298680"/>
            <a:ext cx="2932200" cy="35593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2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ay 1967 the referendum on Aboriginal citizenship was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in Commonwealth Parli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333360"/>
            <a:ext cx="813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Arial Black"/>
              </a:rPr>
              <a:t>When was it creat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00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360" y="3357720"/>
            <a:ext cx="220032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jority of people with one answer wins th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also a specific question asked about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333360"/>
            <a:ext cx="777708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is a referendum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3429000"/>
            <a:ext cx="2345040" cy="328464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e minister Harold Holt after a lot of pressure gave in and allowed Australians to vote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happened in 19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11280" y="404640"/>
            <a:ext cx="7777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o created this referendum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2924280"/>
            <a:ext cx="274140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245448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in" orient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amount of attention was drawn to them while pro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 Ride most successfu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404640"/>
            <a:ext cx="784836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ebb3e8"/>
                    </a:gs>
                    <a:gs pos="100000">
                      <a:srgbClr val="f6f6a8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id they get peoples attention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ebb3e8"/>
                  </a:gs>
                  <a:gs pos="100000">
                    <a:srgbClr val="f6f6a8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3284640"/>
            <a:ext cx="6335640" cy="339084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ount of people that voted yes was  90.7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ll this the aboriginals finally had a political voic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the answer is it wa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640" y="189000"/>
            <a:ext cx="748836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 it successful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19640" y="393372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4360" y="393372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1:09:40Z</dcterms:created>
  <dc:creator>Reservoir District Secondary College</dc:creator>
  <dc:description/>
  <dc:language>en-US</dc:language>
  <cp:lastModifiedBy>Reservoir District Secondary College</cp:lastModifiedBy>
  <dcterms:modified xsi:type="dcterms:W3CDTF">2008-06-05T03:15:51Z</dcterms:modified>
  <cp:revision>36</cp:revision>
  <dc:subject/>
  <dc:title>Slide 1</dc:title>
</cp:coreProperties>
</file>